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F89-94C7-46B2-9607-0D688273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316-CF7E-458F-9547-B2DECD55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C78-E2B2-4F19-B3C6-EE284381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FC4-EBD3-4A78-9FF1-2E3BA4E8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FE6-5117-45A1-B9F1-64F1A102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708-749B-4413-A4FF-B6E1FD4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0BE-08C3-475C-8D59-FC49636C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A3C-8529-4BB6-86BC-D6709DD5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226-B01B-4AE3-BD28-184FE0C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1CD-8859-4211-9335-B2435BAE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A0D-D4EC-4139-8D02-338A08C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6ED-2D78-4AE3-A6F4-CD1DFF0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4F8-1425-4AF5-A46E-D43DFB8E8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oltoolsforschools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cttoolkit.wikispaces.com/online+Tool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index.as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ew eLearning Resourc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66"/>
                </a:solidFill>
                <a:latin typeface="Arial"/>
              </a:rPr>
              <a:t>Possible tools for </a:t>
            </a:r>
            <a:br>
              <a:rPr sz="4000"/>
            </a:br>
            <a:r>
              <a:rPr b="0" lang="en-AU" sz="4000" spc="-1" strike="noStrike">
                <a:solidFill>
                  <a:srgbClr val="ff0066"/>
                </a:solidFill>
                <a:latin typeface="Arial"/>
              </a:rPr>
              <a:t>personalising learning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773360"/>
            <a:ext cx="8064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personalising learning, sharing and collaborating, organising information efficiently for quick delivery or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se web-based star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: Blogs and 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favourites – boo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– social learning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ersonalise a sample start pa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eate new page on iGoogle or the Level 4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sert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message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me favourite activity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calendar with  2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RSS feed to something of interest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k to a blog or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23945" r="0" b="8002"/>
          <a:stretch/>
        </p:blipFill>
        <p:spPr>
          <a:xfrm>
            <a:off x="179280" y="1557360"/>
            <a:ext cx="89647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rcRect l="0" t="24309" r="0" b="4313"/>
          <a:stretch/>
        </p:blipFill>
        <p:spPr>
          <a:xfrm>
            <a:off x="250920" y="1413000"/>
            <a:ext cx="8713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rcRect l="0" t="23100" r="0" b="4540"/>
          <a:stretch/>
        </p:blipFill>
        <p:spPr>
          <a:xfrm>
            <a:off x="395280" y="1989000"/>
            <a:ext cx="828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Arial"/>
              </a:rPr>
              <a:t>Etherpad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22916" r="0" b="3741"/>
          <a:stretch/>
        </p:blipFill>
        <p:spPr>
          <a:xfrm>
            <a:off x="0" y="1781280"/>
            <a:ext cx="9144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1:10:37Z</dcterms:created>
  <dc:creator>02167970</dc:creator>
  <dc:description/>
  <dc:language>en-US</dc:language>
  <cp:lastModifiedBy>02167970</cp:lastModifiedBy>
  <dcterms:modified xsi:type="dcterms:W3CDTF">2009-10-19T23:22:06Z</dcterms:modified>
  <cp:revision>6</cp:revision>
  <dc:subject/>
  <dc:title>New eLearning Resources</dc:title>
</cp:coreProperties>
</file>